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9B8F-A4F4-4398-9FDE-64CB3FEF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2F2-5A8F-4D5C-AE3B-1696835C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CE91-9EDC-4CDF-B18C-750445C2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AF5-BC25-4E83-A80F-40319C40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A46BE-F13A-475B-8EC6-626588D9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0D16E-AACF-4C11-9D00-BC2AF909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88655-E547-49DA-A366-32B8AC49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9E87C-03D5-400B-8185-62D1EFCF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BE8D5-EA43-4A32-AF6B-E52478FE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BC1A6-B4C2-4BD3-83C8-FCCC5A8C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21FE1-F08F-4D0A-B355-374F865D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161-7E70-4FE5-8C37-74FEE3A8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14731-1648-4F5E-9607-228434FE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095B9-1265-49B4-B91C-46373FCE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FDCF3-FA22-4F10-94E9-B5830C7F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CEA8A-4A8B-414A-BDEA-B34C5CF5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9F293-FCE1-4D1B-8A1B-D3B950D0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AD6D-F628-4F4F-A5F9-45BA24A3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5D3-915C-4BF9-8CD3-D837C5D1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C339-0537-4A9D-88F8-BD71EF3E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4D9-368C-4AD8-A7CD-48DD4366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F6D5-73F1-4967-A676-D31EB3FD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524-DE97-4714-83E7-F265233B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D27-ED13-45E0-ABC9-850963AF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9ED9-1F5E-4F4F-8D35-6973DCA3C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3E53-10F2-451A-91BB-DAECBF85B6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ssion 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rijuana Pan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04920" y="6278400"/>
            <a:ext cx="259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04920" y="2057400"/>
            <a:ext cx="883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762120"/>
            <a:ext cx="7467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ANELIST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school age teen ex-user (DANNY/DANIEL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yfriend/Girlfriend of current marijuana user (JAMES/CHERY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 of teenager current marijuana user (AMANDA/JOH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ientist (YOLANDA/STEV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Leah Meza</cp:lastModifiedBy>
  <dcterms:modified xsi:type="dcterms:W3CDTF">2009-11-24T18:38:12Z</dcterms:modified>
  <cp:revision>18</cp:revision>
  <dc:subject/>
  <dc:title>Project TND  (Project Towards No Drug Abuse)</dc:title>
</cp:coreProperties>
</file>